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95DB-5772-4ED8-9CB4-1A7827472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99B7-9F13-43EE-8600-4D307AE69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E06C-96E9-4BDD-B936-A4D65F92B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A013-F29D-4B7C-AF33-0C2E50946E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82FA-8ECF-4728-A0FB-88DBD069B1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9AE8-5FDC-410E-ABF4-CE85C5FF8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8EEB-55F2-493E-948F-A33CDFCCC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7E86-B385-49BE-8964-BA40F5F6E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198E-C33E-41EB-9F63-1035BEE6A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43DD-B65A-458A-BA38-84914BCDF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556D-F510-4CF6-924E-2A622B118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57E6-A1EC-4343-AF74-94D916B90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BC8E-6B87-4B0D-86E5-BB37BC7440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anguage Diversity in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ritzi Wittma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B Germa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ar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81160" y="2381400"/>
            <a:ext cx="3181680" cy="20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80"/>
            <a:ext cx="8229600" cy="6007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of you think that it is important to speak more than one languag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3816-0997-4265-B12C-7BE2F46416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. What percent of Students in Geneva believe that being multilingual is very importa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) 7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) 2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)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) 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0683-32E4-4F96-8C11-48BBBD2017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C8EA-873B-4A35-BA89-CB7A29847BF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; When polled, 80% of students acknowledged the importance of multilingual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DCCA-F1F0-47D4-8517-66CA105D0D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4E93-0562-4BEE-94FF-F3C447CDDA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306360"/>
            <a:ext cx="8432640" cy="5880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Thank you for listening!!</a:t>
            </a:r>
            <a:br>
              <a:rPr sz="5700"/>
            </a:b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Danke!!</a:t>
            </a:r>
            <a:br>
              <a:rPr sz="5700"/>
            </a:br>
            <a:br>
              <a:rPr sz="3500"/>
            </a:br>
            <a:br>
              <a:rPr sz="35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9E54-5B26-439E-A998-41BD856EFE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wissinfo.ch/eng/Home/Archive/Swiss_urged_not_to_forget_language_diversity.html?cid=6702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h.ch/private/00987/01052/01054/02165/index.html?lang=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sefoundation.org/view/6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travelpod.com/users/obrian0620/1.1289495297.switzerland-s-linguistic-diversity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gps-club.de/media/swiss_flag_big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Facts </a:t>
            </a:r>
            <a:br>
              <a:rPr sz="40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Article: Swiss urged not to forget language divers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witzerland has four nationally recognized languages: French, German, Italian, and Roman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ue to the global popularity of English Switzerland’s multilingual culture is under atta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ue to immigration and migration of language itself, Switzerland is, in many ways, more multilingual than bef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en polled, 80% of students attending a high school in Geneva agreed that it is important to be multiling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ile all German speaking students in schools are taught French as a second language it does not mean that the students are fluent throwing the legitimacy of being “multilingual” in to ques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553080" cy="5122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5486400"/>
            <a:ext cx="756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mansh, a Latin based language, accounts for approximately 0.5% of the populations language of cho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ac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rticle: Switzerland's Linguistic Landscap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ther minority languages spoken in Switzerland Serbian, Croatian, Spanish, and Engli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ile, for the most part, Switzerland’s linguistic boarders are clearly defined there are definite areas of overla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Jul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Grande"/>
                <a:ea typeface="Lucida Grande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, 2011 the Ordinance on National Languages and Understanding between the Linguistic Communities  came to 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ach language is urged to promote multilingualism in order to preserve their own cul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most popularly spoken language in Switzerland is German (63.7%) followed by Italian (9%) and French (6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342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4724280"/>
            <a:ext cx="7874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sign exemplifies the multilingual aspects of the Swiss cul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ac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rticle: A Study on Linguistic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wiss National Science Foundation recently began a study on linguistic diversity and language competen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anguage is pre-assigned to each territorial division of Switzerl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roximately 25% of the Swiss population are foreign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chools focus primarily on teaching German and French to their pupi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NSF is likely to use their collected data to produce new guidelines for schools to follow in the upcoming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05160" y="838080"/>
            <a:ext cx="3276360" cy="4525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book illustrates how “Swiss” is truly a compilation of distinct languages yet is has managed to make them its own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4124520" cy="634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percent of Swiss speak Romansh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) 1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) 2 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) 0.5%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) 7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; It is estimated that 0.5% of the population speaks on of the several dialects of Romans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Sadmin</dc:creator>
  <dc:description/>
  <dc:language>en-US</dc:language>
  <cp:lastModifiedBy/>
  <cp:revision>0</cp:revision>
  <dc:subject/>
  <dc:title>Language Diversity in Switzerland</dc:title>
</cp:coreProperties>
</file>